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1C23-31B7-4C66-9155-009C0C9A34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4965-A706-43FD-9C4B-FC7038D43F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641E-DC6D-401C-B650-26255211B4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4C0A-E714-4A7F-8982-D2790EB9A2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2822-616E-40C4-B806-AD81BE59B8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7A6-BD75-41FF-BD49-32063233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88A-D41F-4A7E-A51A-43104698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254-6598-46C6-AD07-173D9CFC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D03-1730-497E-ADF0-A2E7AA97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46DB-E665-4D75-B3E2-488EAD96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96F6-12B4-4775-867C-FE551B1F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4AF9-5979-447F-9600-C727799A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E7AE-60BF-437A-82E4-84B3214F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B4B1-2E6A-45F7-BB59-766DEC4A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71AA-3759-43FB-8A27-A1473027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2AB1-3E9F-4ED0-896F-6A1CA4C1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1F6-B21A-4B2B-893B-5C8011A7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D7FF-11EB-4E0C-A5DA-81A38E2D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4A59-C881-477A-A2E5-39F9D033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C958-5500-4CE5-812E-3CAFC633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3A29-0150-4E44-AEA0-6D5B8B6D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7042-5401-41DE-A13C-F13B1343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2A1-DA27-4920-9680-04708B87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2BC-BE65-4E7B-A2E8-750A1616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96E-CEE1-48F9-88DC-05AEE938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16D-39E5-4BD7-8C7C-C1AF31AD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8DD-D68C-47A4-8E22-7062791A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A4F-69AC-47CE-B2C7-9798F97C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A95-3C5A-4167-BAF8-CD94D4C3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BDFF-D258-4BE4-8079-655552013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345E-9BFA-49AE-8ABA-E16A785BF8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kola-abv.ru/" TargetMode="External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6560" y="1052640"/>
            <a:ext cx="777708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바탕"/>
              </a:rPr>
              <a:t>Самойлова Наталья Александровн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바탕"/>
              </a:rPr>
              <a:t> учитель начальных класс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18920" y="2781000"/>
            <a:ext cx="69850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БОУ «ПРОГИМНАЗИ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. СУРГУ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виз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9236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ЖЕЛАНИЕ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ТЬ НАЙДЁТС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6000" y="1600200"/>
            <a:ext cx="301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Согласен – не  согласен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0072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                            Оцен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92360" y="2752560"/>
          <a:ext cx="2879640" cy="2926080"/>
        </p:xfrm>
        <a:graphic>
          <a:graphicData uri="http://schemas.openxmlformats.org/drawingml/2006/table">
            <a:tbl>
              <a:tblPr/>
              <a:tblGrid>
                <a:gridCol w="1490400"/>
                <a:gridCol w="13892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Зад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«+» согласен, «-» не соглас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х8=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9х7=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х7=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х5=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х4=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2" name="Прямая соединительная линия 6"/>
          <p:cNvSpPr/>
          <p:nvPr/>
        </p:nvSpPr>
        <p:spPr>
          <a:xfrm flipV="1">
            <a:off x="5867280" y="2687400"/>
            <a:ext cx="0" cy="1965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0"/>
          <p:cNvSpPr/>
          <p:nvPr/>
        </p:nvSpPr>
        <p:spPr>
          <a:xfrm>
            <a:off x="5508720" y="3357720"/>
            <a:ext cx="718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9"/>
          <p:cNvSpPr/>
          <p:nvPr/>
        </p:nvSpPr>
        <p:spPr>
          <a:xfrm>
            <a:off x="5508720" y="2781360"/>
            <a:ext cx="718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8"/>
          <p:cNvSpPr/>
          <p:nvPr/>
        </p:nvSpPr>
        <p:spPr>
          <a:xfrm>
            <a:off x="5565600" y="4462560"/>
            <a:ext cx="72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2292"/>
          <p:cNvSpPr/>
          <p:nvPr/>
        </p:nvSpPr>
        <p:spPr>
          <a:xfrm>
            <a:off x="5508720" y="3933720"/>
            <a:ext cx="718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2311"/>
          <p:cNvSpPr/>
          <p:nvPr/>
        </p:nvSpPr>
        <p:spPr>
          <a:xfrm>
            <a:off x="8028000" y="2687760"/>
            <a:ext cx="0" cy="1028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2315"/>
          <p:cNvSpPr/>
          <p:nvPr/>
        </p:nvSpPr>
        <p:spPr>
          <a:xfrm>
            <a:off x="7667640" y="2687760"/>
            <a:ext cx="649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12322"/>
          <p:cNvSpPr/>
          <p:nvPr/>
        </p:nvSpPr>
        <p:spPr>
          <a:xfrm>
            <a:off x="7993080" y="3670200"/>
            <a:ext cx="3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12324"/>
          <p:cNvSpPr/>
          <p:nvPr/>
        </p:nvSpPr>
        <p:spPr>
          <a:xfrm>
            <a:off x="7667640" y="3681360"/>
            <a:ext cx="720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2335"/>
          <p:cNvSpPr/>
          <p:nvPr/>
        </p:nvSpPr>
        <p:spPr>
          <a:xfrm>
            <a:off x="7667640" y="3068640"/>
            <a:ext cx="720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360" y="692280"/>
            <a:ext cx="662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19280" y="2421000"/>
            <a:ext cx="70675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, 25, 45, 15, 55, 35, 65, 75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8560" y="1844280"/>
            <a:ext cx="77058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, 15, 25, 35, 45, 55, 65, 75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1640" y="2060280"/>
            <a:ext cx="75610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, 15, 25, 35, 45, 55, 65, 75,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5, 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99760" y="857160"/>
            <a:ext cx="728676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одной клумбе растёт 5 цветов. Сколько цветов растёт на нескольких таких клумба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99760" y="500040"/>
            <a:ext cx="71866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одной клумбе растёт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цветов.  Сколько цветов растёт  на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таких клумба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71760" y="500040"/>
            <a:ext cx="711504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Овал 3"/>
          <p:cNvSpPr/>
          <p:nvPr/>
        </p:nvSpPr>
        <p:spPr>
          <a:xfrm>
            <a:off x="2143080" y="785880"/>
            <a:ext cx="2571840" cy="2357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4"/>
          <p:cNvSpPr/>
          <p:nvPr/>
        </p:nvSpPr>
        <p:spPr>
          <a:xfrm>
            <a:off x="5500800" y="857160"/>
            <a:ext cx="2428920" cy="2286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5"/>
          <p:cNvSpPr/>
          <p:nvPr/>
        </p:nvSpPr>
        <p:spPr>
          <a:xfrm flipV="1">
            <a:off x="3857760" y="3357720"/>
            <a:ext cx="2500200" cy="2357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00120" y="5357880"/>
            <a:ext cx="72151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+ 5 + 5 = 15 (ЦВ.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28840" y="500040"/>
            <a:ext cx="721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4" name="Овал 3"/>
          <p:cNvSpPr/>
          <p:nvPr/>
        </p:nvSpPr>
        <p:spPr>
          <a:xfrm>
            <a:off x="2071800" y="642960"/>
            <a:ext cx="2643120" cy="24289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4"/>
          <p:cNvSpPr/>
          <p:nvPr/>
        </p:nvSpPr>
        <p:spPr>
          <a:xfrm>
            <a:off x="5286240" y="642960"/>
            <a:ext cx="2571840" cy="2357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5"/>
          <p:cNvSpPr/>
          <p:nvPr/>
        </p:nvSpPr>
        <p:spPr>
          <a:xfrm>
            <a:off x="3929040" y="3000240"/>
            <a:ext cx="2500200" cy="23576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6" descr="Рисунок1.gif"/>
          <p:cNvPicPr/>
          <p:nvPr/>
        </p:nvPicPr>
        <p:blipFill>
          <a:blip r:embed="rId2"/>
          <a:stretch/>
        </p:blipFill>
        <p:spPr>
          <a:xfrm>
            <a:off x="2500200" y="6429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Рисунок1.gif"/>
          <p:cNvPicPr/>
          <p:nvPr/>
        </p:nvPicPr>
        <p:blipFill>
          <a:blip r:embed="rId3"/>
          <a:stretch/>
        </p:blipFill>
        <p:spPr>
          <a:xfrm>
            <a:off x="2928960" y="14288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8" descr="Рисунок1.gif"/>
          <p:cNvPicPr/>
          <p:nvPr/>
        </p:nvPicPr>
        <p:blipFill>
          <a:blip r:embed="rId4"/>
          <a:stretch/>
        </p:blipFill>
        <p:spPr>
          <a:xfrm>
            <a:off x="3500280" y="2071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9" descr="Рисунок1.gif"/>
          <p:cNvPicPr/>
          <p:nvPr/>
        </p:nvPicPr>
        <p:blipFill>
          <a:blip r:embed="rId5"/>
          <a:stretch/>
        </p:blipFill>
        <p:spPr>
          <a:xfrm>
            <a:off x="3714840" y="8571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0" descr="Рисунок1.gif"/>
          <p:cNvPicPr/>
          <p:nvPr/>
        </p:nvPicPr>
        <p:blipFill>
          <a:blip r:embed="rId6"/>
          <a:stretch/>
        </p:blipFill>
        <p:spPr>
          <a:xfrm>
            <a:off x="2286000" y="20001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1" descr="Рисунок2.gif"/>
          <p:cNvPicPr/>
          <p:nvPr/>
        </p:nvPicPr>
        <p:blipFill>
          <a:blip r:embed="rId7"/>
          <a:stretch/>
        </p:blipFill>
        <p:spPr>
          <a:xfrm>
            <a:off x="5643720" y="6429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2" descr="Рисунок2.gif"/>
          <p:cNvPicPr/>
          <p:nvPr/>
        </p:nvPicPr>
        <p:blipFill>
          <a:blip r:embed="rId8"/>
          <a:stretch/>
        </p:blipFill>
        <p:spPr>
          <a:xfrm>
            <a:off x="6143760" y="13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3" descr="Рисунок2.gif"/>
          <p:cNvPicPr/>
          <p:nvPr/>
        </p:nvPicPr>
        <p:blipFill>
          <a:blip r:embed="rId9"/>
          <a:stretch/>
        </p:blipFill>
        <p:spPr>
          <a:xfrm>
            <a:off x="6786720" y="2071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4" descr="Рисунок2.gif"/>
          <p:cNvPicPr/>
          <p:nvPr/>
        </p:nvPicPr>
        <p:blipFill>
          <a:blip r:embed="rId10"/>
          <a:stretch/>
        </p:blipFill>
        <p:spPr>
          <a:xfrm>
            <a:off x="6929280" y="8571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5" descr="Рисунок2.gif"/>
          <p:cNvPicPr/>
          <p:nvPr/>
        </p:nvPicPr>
        <p:blipFill>
          <a:blip r:embed="rId11"/>
          <a:stretch/>
        </p:blipFill>
        <p:spPr>
          <a:xfrm>
            <a:off x="5500800" y="1928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6" descr="Рисунок3.gif"/>
          <p:cNvPicPr/>
          <p:nvPr/>
        </p:nvPicPr>
        <p:blipFill>
          <a:blip r:embed="rId12"/>
          <a:stretch/>
        </p:blipFill>
        <p:spPr>
          <a:xfrm>
            <a:off x="4229280" y="3086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7" descr="Рисунок3.gif"/>
          <p:cNvPicPr/>
          <p:nvPr/>
        </p:nvPicPr>
        <p:blipFill>
          <a:blip r:embed="rId13"/>
          <a:stretch/>
        </p:blipFill>
        <p:spPr>
          <a:xfrm>
            <a:off x="4786200" y="37148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8" descr="Рисунок3.gif"/>
          <p:cNvPicPr/>
          <p:nvPr/>
        </p:nvPicPr>
        <p:blipFill>
          <a:blip r:embed="rId14"/>
          <a:stretch/>
        </p:blipFill>
        <p:spPr>
          <a:xfrm>
            <a:off x="5500800" y="4429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9" descr="Рисунок3.gif"/>
          <p:cNvPicPr/>
          <p:nvPr/>
        </p:nvPicPr>
        <p:blipFill>
          <a:blip r:embed="rId15"/>
          <a:stretch/>
        </p:blipFill>
        <p:spPr>
          <a:xfrm>
            <a:off x="5500800" y="3071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20" descr="Рисунок3.gif"/>
          <p:cNvPicPr/>
          <p:nvPr/>
        </p:nvPicPr>
        <p:blipFill>
          <a:blip r:embed="rId16"/>
          <a:stretch/>
        </p:blipFill>
        <p:spPr>
          <a:xfrm>
            <a:off x="4214880" y="43578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99760" y="500040"/>
            <a:ext cx="718668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5-конечная звезда 2"/>
          <p:cNvSpPr/>
          <p:nvPr/>
        </p:nvSpPr>
        <p:spPr>
          <a:xfrm>
            <a:off x="3071880" y="100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5-конечная звезда 3"/>
          <p:cNvSpPr/>
          <p:nvPr/>
        </p:nvSpPr>
        <p:spPr>
          <a:xfrm>
            <a:off x="5357880" y="928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5-конечная звезда 4"/>
          <p:cNvSpPr/>
          <p:nvPr/>
        </p:nvSpPr>
        <p:spPr>
          <a:xfrm>
            <a:off x="7000920" y="100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5-конечная звезда 5"/>
          <p:cNvSpPr/>
          <p:nvPr/>
        </p:nvSpPr>
        <p:spPr>
          <a:xfrm>
            <a:off x="7286760" y="2357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5-конечная звезда 6"/>
          <p:cNvSpPr/>
          <p:nvPr/>
        </p:nvSpPr>
        <p:spPr>
          <a:xfrm>
            <a:off x="1571760" y="100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5-конечная звезда 7"/>
          <p:cNvSpPr/>
          <p:nvPr/>
        </p:nvSpPr>
        <p:spPr>
          <a:xfrm>
            <a:off x="1571760" y="2286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5-конечная звезда 8"/>
          <p:cNvSpPr/>
          <p:nvPr/>
        </p:nvSpPr>
        <p:spPr>
          <a:xfrm>
            <a:off x="3071880" y="2214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5-конечная звезда 9"/>
          <p:cNvSpPr/>
          <p:nvPr/>
        </p:nvSpPr>
        <p:spPr>
          <a:xfrm>
            <a:off x="5500800" y="2357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5-конечная звезда 10"/>
          <p:cNvSpPr/>
          <p:nvPr/>
        </p:nvSpPr>
        <p:spPr>
          <a:xfrm>
            <a:off x="3571920" y="48578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5-конечная звезда 11"/>
          <p:cNvSpPr/>
          <p:nvPr/>
        </p:nvSpPr>
        <p:spPr>
          <a:xfrm>
            <a:off x="3500280" y="3500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5-конечная звезда 12"/>
          <p:cNvSpPr/>
          <p:nvPr/>
        </p:nvSpPr>
        <p:spPr>
          <a:xfrm>
            <a:off x="5214960" y="3571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5-конечная звезда 13"/>
          <p:cNvSpPr/>
          <p:nvPr/>
        </p:nvSpPr>
        <p:spPr>
          <a:xfrm>
            <a:off x="5286240" y="49291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2195640" y="-1157400"/>
            <a:ext cx="6264000" cy="83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урок математик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во  2 классе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 УМК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.В. Занков»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 учебник мате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2 класс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авторы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.И. Аргинская, Е.И. Ивановская, С.Н. Кормишина, ч. 2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«Издательский дом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Фёдоров»,2012 г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99760" y="521460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 + 4 + 4 = 12 (ЗВ.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99760" y="571320"/>
            <a:ext cx="72867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67" name="Овал 4"/>
          <p:cNvSpPr/>
          <p:nvPr/>
        </p:nvSpPr>
        <p:spPr>
          <a:xfrm>
            <a:off x="1928880" y="857160"/>
            <a:ext cx="2643120" cy="2357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5"/>
          <p:cNvSpPr/>
          <p:nvPr/>
        </p:nvSpPr>
        <p:spPr>
          <a:xfrm>
            <a:off x="6072120" y="928800"/>
            <a:ext cx="2357640" cy="2214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6"/>
          <p:cNvSpPr/>
          <p:nvPr/>
        </p:nvSpPr>
        <p:spPr>
          <a:xfrm>
            <a:off x="4143240" y="2857680"/>
            <a:ext cx="2357640" cy="2214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5-конечная звезда 7"/>
          <p:cNvSpPr/>
          <p:nvPr/>
        </p:nvSpPr>
        <p:spPr>
          <a:xfrm>
            <a:off x="2214720" y="2000160"/>
            <a:ext cx="642960" cy="771480"/>
          </a:xfrm>
          <a:custGeom>
            <a:avLst/>
            <a:gdLst/>
            <a:ahLst/>
            <a:rect l="l" t="t" r="r" b="b"/>
            <a:pathLst>
              <a:path w="642937" h="771525">
                <a:moveTo>
                  <a:pt x="1" y="294696"/>
                </a:moveTo>
                <a:lnTo>
                  <a:pt x="245581" y="294698"/>
                </a:lnTo>
                <a:lnTo>
                  <a:pt x="321469" y="0"/>
                </a:lnTo>
                <a:lnTo>
                  <a:pt x="397356" y="294698"/>
                </a:lnTo>
                <a:lnTo>
                  <a:pt x="642936" y="294696"/>
                </a:lnTo>
                <a:lnTo>
                  <a:pt x="444256" y="476827"/>
                </a:lnTo>
                <a:lnTo>
                  <a:pt x="520147" y="771523"/>
                </a:lnTo>
                <a:lnTo>
                  <a:pt x="321469" y="589389"/>
                </a:lnTo>
                <a:lnTo>
                  <a:pt x="122790" y="771523"/>
                </a:lnTo>
                <a:lnTo>
                  <a:pt x="198681" y="476827"/>
                </a:lnTo>
                <a:lnTo>
                  <a:pt x="1" y="29469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5-конечная звезда 8"/>
          <p:cNvSpPr/>
          <p:nvPr/>
        </p:nvSpPr>
        <p:spPr>
          <a:xfrm>
            <a:off x="2428920" y="1000080"/>
            <a:ext cx="571320" cy="700200"/>
          </a:xfrm>
          <a:custGeom>
            <a:avLst/>
            <a:gdLst/>
            <a:ahLst/>
            <a:rect l="l" t="t" r="r" b="b"/>
            <a:pathLst>
              <a:path w="571500" h="700088">
                <a:moveTo>
                  <a:pt x="1" y="267409"/>
                </a:moveTo>
                <a:lnTo>
                  <a:pt x="218295" y="267411"/>
                </a:lnTo>
                <a:lnTo>
                  <a:pt x="285750" y="0"/>
                </a:lnTo>
                <a:lnTo>
                  <a:pt x="353205" y="267411"/>
                </a:lnTo>
                <a:lnTo>
                  <a:pt x="571499" y="267409"/>
                </a:lnTo>
                <a:lnTo>
                  <a:pt x="394895" y="432676"/>
                </a:lnTo>
                <a:lnTo>
                  <a:pt x="462353" y="700086"/>
                </a:lnTo>
                <a:lnTo>
                  <a:pt x="285750" y="534816"/>
                </a:lnTo>
                <a:lnTo>
                  <a:pt x="109147" y="700086"/>
                </a:lnTo>
                <a:lnTo>
                  <a:pt x="176605" y="432676"/>
                </a:lnTo>
                <a:lnTo>
                  <a:pt x="1" y="26740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5-конечная звезда 9"/>
          <p:cNvSpPr/>
          <p:nvPr/>
        </p:nvSpPr>
        <p:spPr>
          <a:xfrm>
            <a:off x="3571920" y="1071720"/>
            <a:ext cx="642960" cy="714240"/>
          </a:xfrm>
          <a:custGeom>
            <a:avLst/>
            <a:gdLst/>
            <a:ahLst/>
            <a:rect l="l" t="t" r="r" b="b"/>
            <a:pathLst>
              <a:path w="642938" h="714375">
                <a:moveTo>
                  <a:pt x="1" y="272866"/>
                </a:moveTo>
                <a:lnTo>
                  <a:pt x="245582" y="272868"/>
                </a:lnTo>
                <a:lnTo>
                  <a:pt x="321469" y="0"/>
                </a:lnTo>
                <a:lnTo>
                  <a:pt x="397356" y="272868"/>
                </a:lnTo>
                <a:lnTo>
                  <a:pt x="642937" y="272866"/>
                </a:lnTo>
                <a:lnTo>
                  <a:pt x="444257" y="441506"/>
                </a:lnTo>
                <a:lnTo>
                  <a:pt x="520147" y="714373"/>
                </a:lnTo>
                <a:lnTo>
                  <a:pt x="321469" y="545730"/>
                </a:lnTo>
                <a:lnTo>
                  <a:pt x="122791" y="714373"/>
                </a:lnTo>
                <a:lnTo>
                  <a:pt x="198681" y="441506"/>
                </a:lnTo>
                <a:lnTo>
                  <a:pt x="1" y="27286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5-конечная звезда 10"/>
          <p:cNvSpPr/>
          <p:nvPr/>
        </p:nvSpPr>
        <p:spPr>
          <a:xfrm>
            <a:off x="3429000" y="2143080"/>
            <a:ext cx="714240" cy="785880"/>
          </a:xfrm>
          <a:custGeom>
            <a:avLst/>
            <a:gdLst/>
            <a:ahLst/>
            <a:rect l="l" t="t" r="r" b="b"/>
            <a:pathLst>
              <a:path w="714375" h="785813">
                <a:moveTo>
                  <a:pt x="1" y="300153"/>
                </a:moveTo>
                <a:lnTo>
                  <a:pt x="272868" y="300155"/>
                </a:lnTo>
                <a:lnTo>
                  <a:pt x="357188" y="0"/>
                </a:lnTo>
                <a:lnTo>
                  <a:pt x="441507" y="300155"/>
                </a:lnTo>
                <a:lnTo>
                  <a:pt x="714374" y="300153"/>
                </a:lnTo>
                <a:lnTo>
                  <a:pt x="493619" y="485657"/>
                </a:lnTo>
                <a:lnTo>
                  <a:pt x="577941" y="785811"/>
                </a:lnTo>
                <a:lnTo>
                  <a:pt x="357188" y="600304"/>
                </a:lnTo>
                <a:lnTo>
                  <a:pt x="136434" y="785811"/>
                </a:lnTo>
                <a:lnTo>
                  <a:pt x="220756" y="485657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5-конечная звезда 11"/>
          <p:cNvSpPr/>
          <p:nvPr/>
        </p:nvSpPr>
        <p:spPr>
          <a:xfrm>
            <a:off x="6357960" y="1143000"/>
            <a:ext cx="642960" cy="857160"/>
          </a:xfrm>
          <a:custGeom>
            <a:avLst/>
            <a:gdLst/>
            <a:ahLst/>
            <a:rect l="l" t="t" r="r" b="b"/>
            <a:pathLst>
              <a:path w="642937" h="857250">
                <a:moveTo>
                  <a:pt x="1" y="327440"/>
                </a:moveTo>
                <a:lnTo>
                  <a:pt x="245581" y="327442"/>
                </a:lnTo>
                <a:lnTo>
                  <a:pt x="321469" y="0"/>
                </a:lnTo>
                <a:lnTo>
                  <a:pt x="397356" y="327442"/>
                </a:lnTo>
                <a:lnTo>
                  <a:pt x="642936" y="327440"/>
                </a:lnTo>
                <a:lnTo>
                  <a:pt x="444256" y="529807"/>
                </a:lnTo>
                <a:lnTo>
                  <a:pt x="520147" y="857248"/>
                </a:lnTo>
                <a:lnTo>
                  <a:pt x="321469" y="654876"/>
                </a:lnTo>
                <a:lnTo>
                  <a:pt x="122790" y="857248"/>
                </a:lnTo>
                <a:lnTo>
                  <a:pt x="198681" y="529807"/>
                </a:lnTo>
                <a:lnTo>
                  <a:pt x="1" y="32744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5-конечная звезда 12"/>
          <p:cNvSpPr/>
          <p:nvPr/>
        </p:nvSpPr>
        <p:spPr>
          <a:xfrm>
            <a:off x="7429680" y="1143000"/>
            <a:ext cx="642600" cy="785880"/>
          </a:xfrm>
          <a:custGeom>
            <a:avLst/>
            <a:gdLst/>
            <a:ahLst/>
            <a:rect l="l" t="t" r="r" b="b"/>
            <a:pathLst>
              <a:path w="642938" h="785813">
                <a:moveTo>
                  <a:pt x="1" y="300153"/>
                </a:moveTo>
                <a:lnTo>
                  <a:pt x="245582" y="300155"/>
                </a:lnTo>
                <a:lnTo>
                  <a:pt x="321469" y="0"/>
                </a:lnTo>
                <a:lnTo>
                  <a:pt x="397356" y="300155"/>
                </a:lnTo>
                <a:lnTo>
                  <a:pt x="642937" y="300153"/>
                </a:lnTo>
                <a:lnTo>
                  <a:pt x="444257" y="485657"/>
                </a:lnTo>
                <a:lnTo>
                  <a:pt x="520147" y="785811"/>
                </a:lnTo>
                <a:lnTo>
                  <a:pt x="321469" y="600304"/>
                </a:lnTo>
                <a:lnTo>
                  <a:pt x="122791" y="785811"/>
                </a:lnTo>
                <a:lnTo>
                  <a:pt x="198681" y="485657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5-конечная звезда 13"/>
          <p:cNvSpPr/>
          <p:nvPr/>
        </p:nvSpPr>
        <p:spPr>
          <a:xfrm>
            <a:off x="6286680" y="2071800"/>
            <a:ext cx="642600" cy="714240"/>
          </a:xfrm>
          <a:custGeom>
            <a:avLst/>
            <a:gdLst/>
            <a:ahLst/>
            <a:rect l="l" t="t" r="r" b="b"/>
            <a:pathLst>
              <a:path w="642938" h="714375">
                <a:moveTo>
                  <a:pt x="1" y="272866"/>
                </a:moveTo>
                <a:lnTo>
                  <a:pt x="245582" y="272868"/>
                </a:lnTo>
                <a:lnTo>
                  <a:pt x="321469" y="0"/>
                </a:lnTo>
                <a:lnTo>
                  <a:pt x="397356" y="272868"/>
                </a:lnTo>
                <a:lnTo>
                  <a:pt x="642937" y="272866"/>
                </a:lnTo>
                <a:lnTo>
                  <a:pt x="444257" y="441506"/>
                </a:lnTo>
                <a:lnTo>
                  <a:pt x="520147" y="714373"/>
                </a:lnTo>
                <a:lnTo>
                  <a:pt x="321469" y="545730"/>
                </a:lnTo>
                <a:lnTo>
                  <a:pt x="122791" y="714373"/>
                </a:lnTo>
                <a:lnTo>
                  <a:pt x="198681" y="441506"/>
                </a:lnTo>
                <a:lnTo>
                  <a:pt x="1" y="27286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5-конечная звезда 14"/>
          <p:cNvSpPr/>
          <p:nvPr/>
        </p:nvSpPr>
        <p:spPr>
          <a:xfrm>
            <a:off x="7286760" y="2071800"/>
            <a:ext cx="714240" cy="714240"/>
          </a:xfrm>
          <a:custGeom>
            <a:avLst/>
            <a:gdLst/>
            <a:ahLst/>
            <a:rect l="l" t="t" r="r" b="b"/>
            <a:pathLst>
              <a:path w="714375" h="714375">
                <a:moveTo>
                  <a:pt x="1" y="272866"/>
                </a:moveTo>
                <a:lnTo>
                  <a:pt x="272868" y="272868"/>
                </a:lnTo>
                <a:lnTo>
                  <a:pt x="357188" y="0"/>
                </a:lnTo>
                <a:lnTo>
                  <a:pt x="441507" y="272868"/>
                </a:lnTo>
                <a:lnTo>
                  <a:pt x="714374" y="272866"/>
                </a:lnTo>
                <a:lnTo>
                  <a:pt x="493619" y="441506"/>
                </a:lnTo>
                <a:lnTo>
                  <a:pt x="577941" y="714373"/>
                </a:lnTo>
                <a:lnTo>
                  <a:pt x="357188" y="545730"/>
                </a:lnTo>
                <a:lnTo>
                  <a:pt x="136434" y="714373"/>
                </a:lnTo>
                <a:lnTo>
                  <a:pt x="220756" y="441506"/>
                </a:lnTo>
                <a:lnTo>
                  <a:pt x="1" y="27286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5-конечная звезда 15"/>
          <p:cNvSpPr/>
          <p:nvPr/>
        </p:nvSpPr>
        <p:spPr>
          <a:xfrm>
            <a:off x="4429080" y="3071880"/>
            <a:ext cx="714600" cy="785880"/>
          </a:xfrm>
          <a:custGeom>
            <a:avLst/>
            <a:gdLst/>
            <a:ahLst/>
            <a:rect l="l" t="t" r="r" b="b"/>
            <a:pathLst>
              <a:path w="714375" h="785812">
                <a:moveTo>
                  <a:pt x="1" y="300153"/>
                </a:moveTo>
                <a:lnTo>
                  <a:pt x="272868" y="300155"/>
                </a:lnTo>
                <a:lnTo>
                  <a:pt x="357188" y="0"/>
                </a:lnTo>
                <a:lnTo>
                  <a:pt x="441507" y="300155"/>
                </a:lnTo>
                <a:lnTo>
                  <a:pt x="714374" y="300153"/>
                </a:lnTo>
                <a:lnTo>
                  <a:pt x="493619" y="485656"/>
                </a:lnTo>
                <a:lnTo>
                  <a:pt x="577941" y="785810"/>
                </a:lnTo>
                <a:lnTo>
                  <a:pt x="357188" y="600303"/>
                </a:lnTo>
                <a:lnTo>
                  <a:pt x="136434" y="785810"/>
                </a:lnTo>
                <a:lnTo>
                  <a:pt x="220756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5-конечная звезда 16"/>
          <p:cNvSpPr/>
          <p:nvPr/>
        </p:nvSpPr>
        <p:spPr>
          <a:xfrm>
            <a:off x="5429160" y="3000240"/>
            <a:ext cx="785880" cy="928800"/>
          </a:xfrm>
          <a:custGeom>
            <a:avLst/>
            <a:gdLst/>
            <a:ahLst/>
            <a:rect l="l" t="t" r="r" b="b"/>
            <a:pathLst>
              <a:path w="785813" h="928688">
                <a:moveTo>
                  <a:pt x="1" y="354726"/>
                </a:moveTo>
                <a:lnTo>
                  <a:pt x="300156" y="354729"/>
                </a:lnTo>
                <a:lnTo>
                  <a:pt x="392907" y="0"/>
                </a:lnTo>
                <a:lnTo>
                  <a:pt x="485657" y="354729"/>
                </a:lnTo>
                <a:lnTo>
                  <a:pt x="785812" y="354726"/>
                </a:lnTo>
                <a:lnTo>
                  <a:pt x="542981" y="573958"/>
                </a:lnTo>
                <a:lnTo>
                  <a:pt x="635736" y="928686"/>
                </a:lnTo>
                <a:lnTo>
                  <a:pt x="392907" y="709450"/>
                </a:lnTo>
                <a:lnTo>
                  <a:pt x="150077" y="928686"/>
                </a:lnTo>
                <a:lnTo>
                  <a:pt x="242832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5-конечная звезда 17"/>
          <p:cNvSpPr/>
          <p:nvPr/>
        </p:nvSpPr>
        <p:spPr>
          <a:xfrm>
            <a:off x="4429080" y="4000680"/>
            <a:ext cx="785880" cy="785520"/>
          </a:xfrm>
          <a:custGeom>
            <a:avLst/>
            <a:gdLst/>
            <a:ahLst/>
            <a:rect l="l" t="t" r="r" b="b"/>
            <a:pathLst>
              <a:path w="785813" h="785813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7"/>
                </a:lnTo>
                <a:lnTo>
                  <a:pt x="635736" y="785811"/>
                </a:lnTo>
                <a:lnTo>
                  <a:pt x="392907" y="600304"/>
                </a:lnTo>
                <a:lnTo>
                  <a:pt x="150077" y="785811"/>
                </a:lnTo>
                <a:lnTo>
                  <a:pt x="242832" y="485657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5-конечная звезда 18"/>
          <p:cNvSpPr/>
          <p:nvPr/>
        </p:nvSpPr>
        <p:spPr>
          <a:xfrm>
            <a:off x="5429160" y="4071960"/>
            <a:ext cx="571680" cy="785880"/>
          </a:xfrm>
          <a:custGeom>
            <a:avLst/>
            <a:gdLst/>
            <a:ahLst/>
            <a:rect l="l" t="t" r="r" b="b"/>
            <a:pathLst>
              <a:path w="571500" h="785812">
                <a:moveTo>
                  <a:pt x="1" y="300153"/>
                </a:moveTo>
                <a:lnTo>
                  <a:pt x="218295" y="300155"/>
                </a:lnTo>
                <a:lnTo>
                  <a:pt x="285750" y="0"/>
                </a:lnTo>
                <a:lnTo>
                  <a:pt x="353205" y="300155"/>
                </a:lnTo>
                <a:lnTo>
                  <a:pt x="571499" y="300153"/>
                </a:lnTo>
                <a:lnTo>
                  <a:pt x="394895" y="485656"/>
                </a:lnTo>
                <a:lnTo>
                  <a:pt x="462353" y="785810"/>
                </a:lnTo>
                <a:lnTo>
                  <a:pt x="285750" y="600303"/>
                </a:lnTo>
                <a:lnTo>
                  <a:pt x="109147" y="785810"/>
                </a:lnTo>
                <a:lnTo>
                  <a:pt x="176605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63280" y="428400"/>
            <a:ext cx="692316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одно пальто     пришивают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говиц.  Сколько пуговиц пришьют на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их пальто?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: научиться коротко записывать сумму одинаковых слагаемы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47280" y="428400"/>
            <a:ext cx="7201080" cy="46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урока: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ножение как действие, заменяющее сложение равных чисел</a:t>
            </a: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39640" y="627120"/>
            <a:ext cx="577044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ножение - 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хождение суммы одинаковых слагаемых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Рисунок 2" descr="school0301.png"/>
          <p:cNvPicPr/>
          <p:nvPr/>
        </p:nvPicPr>
        <p:blipFill>
          <a:blip r:embed="rId2"/>
          <a:stretch/>
        </p:blipFill>
        <p:spPr>
          <a:xfrm>
            <a:off x="1476360" y="3141720"/>
            <a:ext cx="194328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476000" y="1600200"/>
            <a:ext cx="301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  х 1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 – слагаемы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 – показывает, сколько было таких слагаемы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 – запись действия умн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291881-alexfas01"/>
          <p:cNvPicPr/>
          <p:nvPr/>
        </p:nvPicPr>
        <p:blipFill>
          <a:blip r:embed="rId1"/>
          <a:stretch/>
        </p:blipFill>
        <p:spPr>
          <a:xfrm>
            <a:off x="1763640" y="1413000"/>
            <a:ext cx="5788080" cy="43462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50920" y="26028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Berlin Sans FB Demi"/>
                <a:ea typeface="Arial"/>
              </a:rPr>
              <a:t>Зарядка для гла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676944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с учебником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ница 6, № 277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Рисунок 2" descr="21.jpg"/>
          <p:cNvPicPr/>
          <p:nvPr/>
        </p:nvPicPr>
        <p:blipFill>
          <a:blip r:embed="rId2"/>
          <a:stretch/>
        </p:blipFill>
        <p:spPr>
          <a:xfrm>
            <a:off x="3059280" y="4221000"/>
            <a:ext cx="15825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00120" y="1268280"/>
            <a:ext cx="5214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3 + 3 + 3 + 3 =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6 + 6 + 6 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2 + 2 + 2 + 2 + 2 =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4 + 4 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372360" y="1341000"/>
            <a:ext cx="2016000" cy="46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3 х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6 х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2 х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4 х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8000" y="549000"/>
            <a:ext cx="67788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ометрическая задача страница 7, №280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группа – 1 геометрическая фигур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группа – 2 геометрическая фигур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группа – 3 геометрическая фигур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 группа – 4 геометрическая фиг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5"/>
          <p:cNvSpPr/>
          <p:nvPr/>
        </p:nvSpPr>
        <p:spPr>
          <a:xfrm>
            <a:off x="1763640" y="4514760"/>
            <a:ext cx="1177920" cy="120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Равнобедренный треугольник 6"/>
          <p:cNvSpPr/>
          <p:nvPr/>
        </p:nvSpPr>
        <p:spPr>
          <a:xfrm>
            <a:off x="6372360" y="451476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ый треугольник 7"/>
          <p:cNvSpPr/>
          <p:nvPr/>
        </p:nvSpPr>
        <p:spPr>
          <a:xfrm>
            <a:off x="5192640" y="4952880"/>
            <a:ext cx="914400" cy="9144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Блок-схема: процесс 8"/>
          <p:cNvSpPr/>
          <p:nvPr/>
        </p:nvSpPr>
        <p:spPr>
          <a:xfrm>
            <a:off x="3419640" y="4897440"/>
            <a:ext cx="1274760" cy="80496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 дифференцирован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834920" y="1989000"/>
            <a:ext cx="6049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группа – стр. 6 № 277 (А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группа – стр. 6 № 277 (Б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группа – стр. 7 №279 (1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1547640" y="1197000"/>
            <a:ext cx="676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Умножение как действие, заменяющее сложение равных частей»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: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формировать умение находить рациональный способ нахождения значения целого, состоящего из равных ча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68000" y="1197000"/>
            <a:ext cx="5543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На уроке мне больше всего запомнилось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Дома  я расскажу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Я встретился с трудностью при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Я узнал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 меня хорошо получилось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Ещё мне хотелось бы узнать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Знания, полученные на уроке, я могу использовать 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Лучше всех на уроке работал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Материал урока понял, но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Мне было трудно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Самое интересное задание было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Самое трудное для меня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За что можем себя похвали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Меня удивило то, что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403280" y="162864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Вспоминая девиз нашего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Есть желание, путь найдётся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картинки о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etecddonetsk.com.ua/mainmenu/gorodon/krasnaya_kniga/zhuk_nosorog.jp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5084640"/>
            <a:ext cx="25146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Сайт «Школа АБ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shkola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abv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5672160" y="4767120"/>
            <a:ext cx="102852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549360"/>
            <a:ext cx="6994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на формирование УУ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76360" y="1341000"/>
            <a:ext cx="7128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ичностн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и высказывать самые простые, общие для всех людей правила поведения при совместной работе и сотрудничестве способность к самооценке на основе критерия успешности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егулятивн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ределять и формулировать цель на уроке с помощью учителя; проговаривать последовательность действий на уроке; работать по  коллективно составленному плану; вносить необходимые коррективы в действие после его завершения на основе его оценки и учёта характера сделанных ошибок; высказывать своё предположение; оценивать правильность выполнения действия на уровне адекватной ретроспективной оцен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оммуникативн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формлять свои мысли в устной форме; слушать и понимать речь других; совместно договариваться о правилах поведения и общения в школе и следовать и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знавательные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риентироваться в своей системе знаний: отличать новое от уже известного с помощью учителя; добывать новые знания: находить ответы на вопросы, используя учебник; извлекать информацию, представленную в разных формах; перерабатывать полученную информацию: наблюдать и делать  самостоятельные  вывод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используемые на уроке: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и проблемы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-поисковый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-практический</a:t>
            </a:r>
            <a:br>
              <a:rPr sz="1800"/>
            </a:b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Средства обучени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активная  доска;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зентация;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ьюте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ик  математики под редакцией  И.И. Аргинской и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рточки - задания на лист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чая презентац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Форма проведения урока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альная, группова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, работа в пар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 Приёмы:  побуждающий от проблемной ситуации диалог; «Согласен – не согласен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вободный микрофон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рганизационный этап с психологическим настроем – 2 мину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отивация к учебной деятельности – 2 мину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ктуализация знаний. Постановка проблемы – 5 мину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ткрытие нового знания – 6 мину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ормулировка темы, постановка цели урока – 3 мину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Физминутка – 3 мину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Первичное закрепление. Рефлексия учебной деятельности – 7 мину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Закрепление изученного ранее -  10 мину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Домашнее задание, комментирование – 3 мину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Рефлексия – 4 мину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д урока:</a:t>
            </a: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19280" y="1341000"/>
            <a:ext cx="706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онный этап с психологическим настроем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а  этапа:  </a:t>
            </a:r>
            <a:r>
              <a:rPr b="1" lang="ru-RU" sz="2000" spc="-1" strike="noStrike">
                <a:solidFill>
                  <a:srgbClr val="241f00"/>
                </a:solidFill>
                <a:latin typeface="Times New Roman"/>
                <a:ea typeface="Times New Roman"/>
              </a:rPr>
              <a:t>настроить детей на предстоящую деятельность, создать положительный психологический настро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1f00"/>
                </a:solidFill>
                <a:latin typeface="Times New Roman"/>
                <a:ea typeface="Times New Roman"/>
              </a:rPr>
              <a:t>1.Крибле, крабле, бум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1f00"/>
                </a:solidFill>
                <a:latin typeface="Times New Roman"/>
                <a:ea typeface="Times New Roman"/>
              </a:rPr>
              <a:t>Звучит волшебно слово-заклинани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1f00"/>
                </a:solidFill>
                <a:latin typeface="Times New Roman"/>
                <a:ea typeface="Times New Roman"/>
              </a:rPr>
              <a:t>Позвал нас всех заливистый звон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1f00"/>
                </a:solidFill>
                <a:latin typeface="Times New Roman"/>
                <a:ea typeface="Times New Roman"/>
              </a:rPr>
              <a:t>Ребята, успокоились! Вним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1f00"/>
                </a:solidFill>
                <a:latin typeface="Times New Roman"/>
                <a:ea typeface="Times New Roman"/>
              </a:rPr>
              <a:t>Мы начинаем математики урок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1f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241f00"/>
                </a:solidFill>
                <a:latin typeface="Times New Roman"/>
                <a:ea typeface="Times New Roman"/>
              </a:rPr>
              <a:t>Все на месте, всё у нас готов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1f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2000" spc="-1" strike="noStrike">
                <a:solidFill>
                  <a:srgbClr val="241f00"/>
                </a:solidFill>
                <a:latin typeface="Times New Roman"/>
                <a:ea typeface="Times New Roman"/>
              </a:rPr>
              <a:t>Мы поймём друг друга с полусл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1f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2000" spc="-1" strike="noStrike">
                <a:solidFill>
                  <a:srgbClr val="241f00"/>
                </a:solidFill>
                <a:latin typeface="Times New Roman"/>
                <a:ea typeface="Times New Roman"/>
              </a:rPr>
              <a:t>Приветливо  друг другу улыбните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1f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2000" spc="-1" strike="noStrike">
                <a:solidFill>
                  <a:srgbClr val="241f00"/>
                </a:solidFill>
                <a:latin typeface="Times New Roman"/>
                <a:ea typeface="Times New Roman"/>
              </a:rPr>
              <a:t>И потихоньку на места садите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4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7067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тивация к  организации учебного процесса с элементами здоровьесберегающих технолог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етрадь свою открою, уголочком полож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друзья от вас не скро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ку я вот так держ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яду прямо, не согну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боту я возьму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а этап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содействие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и здоровья уча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2" descr="C:\Documents and Settings\User\Рабочий стол\первая\4(1).jpg"/>
          <p:cNvPicPr/>
          <p:nvPr/>
        </p:nvPicPr>
        <p:blipFill>
          <a:blip r:embed="rId2"/>
          <a:stretch/>
        </p:blipFill>
        <p:spPr>
          <a:xfrm>
            <a:off x="3132000" y="4076640"/>
            <a:ext cx="3888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ы уроко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908000" y="1700280"/>
          <a:ext cx="6048720" cy="2592360"/>
        </p:xfrm>
        <a:graphic>
          <a:graphicData uri="http://schemas.openxmlformats.org/drawingml/2006/table">
            <a:tbl>
              <a:tblPr/>
              <a:tblGrid>
                <a:gridCol w="968400"/>
                <a:gridCol w="182880"/>
                <a:gridCol w="1114200"/>
                <a:gridCol w="297000"/>
                <a:gridCol w="1181160"/>
                <a:gridCol w="203040"/>
                <a:gridCol w="1093680"/>
                <a:gridCol w="177840"/>
                <a:gridCol w="830520"/>
              </a:tblGrid>
              <a:tr h="259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ме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ожение как действие заменяющее сложение равных час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ение и вычит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уг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20:06:52Z</dcterms:created>
  <dc:creator>Сергей</dc:creator>
  <dc:description/>
  <dc:language>en-US</dc:language>
  <cp:lastModifiedBy>Microsoft </cp:lastModifiedBy>
  <dcterms:modified xsi:type="dcterms:W3CDTF">2016-12-28T07:03:21Z</dcterms:modified>
  <cp:revision>54</cp:revision>
  <dc:subject/>
  <dc:title>Умножение как действие, заменяющее сложение равных чисел.  Знак умножения.  Дополнение текста, не являющегося задачей, до задачи.</dc:title>
</cp:coreProperties>
</file>